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3A2-D003-4885-89F4-2E2D22E7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475-ACEA-4413-8A89-451A4321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25E-7A7E-4691-A86F-3CC07B91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E2A-4F6F-415A-A459-D9E1B1E4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54F-C139-448D-B522-5598C6C5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DB8-8526-473F-A15D-9865CB50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DE7-9962-47EF-8762-D9000FF3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FF8-3198-44B9-83AF-26D502D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7A3-1447-4994-BECC-5D2D2FF3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BF8-FB64-4DAA-8758-ADD0AE2B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DC2-28E7-49DB-B94A-0CAD8546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539-F436-4C35-9606-DC17A6CA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1DBC-0270-4160-A044-1B493FDEB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代数式与方程（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13968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的年龄是迪迪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年后，爸爸和迪迪的年龄和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今年爸爸和迪迪各多少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11280" y="2060640"/>
            <a:ext cx="3671640" cy="647640"/>
          </a:xfrm>
          <a:prstGeom prst="wedgeRoundRectCallout">
            <a:avLst>
              <a:gd name="adj1" fmla="val -57263"/>
              <a:gd name="adj2" fmla="val 25736"/>
              <a:gd name="adj3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什么为等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 rot="10800000">
            <a:off x="4858920" y="1699920"/>
            <a:ext cx="3745080" cy="1081080"/>
          </a:xfrm>
          <a:prstGeom prst="wedgeRoundRectCallout">
            <a:avLst>
              <a:gd name="adj1" fmla="val -58439"/>
              <a:gd name="adj2" fmla="val -35171"/>
              <a:gd name="adj3" fmla="val 16667"/>
            </a:avLst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年爸爸和迪迪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龄和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193840" y="28494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设迪迪今年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71640" y="342576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今年爸爸和迪迪的年龄和是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547640" y="407664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后：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938920" y="4508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156360" y="49417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492360" y="5445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的年龄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836720" y="60213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今年爸爸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迪迪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79280" y="95400"/>
            <a:ext cx="9193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某市规定：乘坐出租车起步价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以内），超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以外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元计费（不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计费）。已知小明的妈乘坐出租车行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代数式表示小明的妈妈应付的钱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当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小明的妈妈应付多少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79280" y="4219560"/>
            <a:ext cx="20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971640" y="486900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≤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小明的妈妈应付的钱数为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971640" y="537372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&gt;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小明的妈妈应付的钱数为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2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900000" y="11923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844720" y="119700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32000" y="2273400"/>
            <a:ext cx="331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-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+8×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981080" y="472140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小明的妈妈应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611280" y="549360"/>
            <a:ext cx="2303280" cy="863640"/>
            <a:chOff x="611280" y="549360"/>
            <a:chExt cx="2303280" cy="863640"/>
          </a:xfrm>
        </p:grpSpPr>
        <p:sp>
          <p:nvSpPr>
            <p:cNvPr id="44" name="AutoShape 5"/>
            <p:cNvSpPr/>
            <p:nvPr/>
          </p:nvSpPr>
          <p:spPr>
            <a:xfrm>
              <a:off x="611280" y="549360"/>
              <a:ext cx="2303280" cy="8636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1091520" y="6922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cc"/>
                  </a:solidFill>
                  <a:latin typeface="宋体"/>
                  <a:ea typeface="宋体"/>
                </a:rPr>
                <a:t>方程的意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9"/>
          <p:cNvSpPr/>
          <p:nvPr/>
        </p:nvSpPr>
        <p:spPr>
          <a:xfrm>
            <a:off x="1913040" y="19051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什么叫方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531520" y="30272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方程的条件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>
            <a:hlinkClick r:id="rId1" action="ppaction://hlinksldjump"/>
          </p:cNvPr>
          <p:cNvSpPr/>
          <p:nvPr/>
        </p:nvSpPr>
        <p:spPr>
          <a:xfrm>
            <a:off x="8459640" y="6165720"/>
            <a:ext cx="505080" cy="505080"/>
          </a:xfrm>
          <a:custGeom>
            <a:avLst/>
            <a:gdLst>
              <a:gd name="textAreaLeft" fmla="*/ 208080 w 505080"/>
              <a:gd name="textAreaRight" fmla="*/ 297000 w 505080"/>
              <a:gd name="textAreaTop" fmla="*/ 208080 h 505080"/>
              <a:gd name="textAreaBottom" fmla="*/ 2970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6280920" y="30481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未知数、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871600" y="1905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含有未知数的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50920" y="260280"/>
            <a:ext cx="87138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电影院第一排有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座位，后面每一排比前面一排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座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第二排有（        ）个座位，第三排有（        ）个座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第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排的座位数，那么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（                        ）。当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（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213080" y="2079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8000" y="2798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981080" y="4599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+2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-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291280" y="53197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6"/>
          <p:cNvGrpSpPr/>
          <p:nvPr/>
        </p:nvGrpSpPr>
        <p:grpSpPr>
          <a:xfrm>
            <a:off x="250920" y="115920"/>
            <a:ext cx="8642160" cy="3980520"/>
            <a:chOff x="250920" y="115920"/>
            <a:chExt cx="8642160" cy="3980520"/>
          </a:xfrm>
        </p:grpSpPr>
        <p:sp>
          <p:nvSpPr>
            <p:cNvPr id="57" name="Text Box 4"/>
            <p:cNvSpPr/>
            <p:nvPr/>
          </p:nvSpPr>
          <p:spPr>
            <a:xfrm>
              <a:off x="250920" y="115920"/>
              <a:ext cx="8642160" cy="39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用方程表示下面各题的数量关系，并解方程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倍是    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5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倍加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于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8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从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里减去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倍，差是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某数的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倍减去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于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5%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Object 4"/>
                <p:cNvSpPr txBox="1"/>
                <p:nvPr/>
              </p:nvSpPr>
              <p:spPr>
                <a:xfrm>
                  <a:off x="3351240" y="1123920"/>
                  <a:ext cx="428760" cy="12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" name="Text Box 7"/>
          <p:cNvSpPr/>
          <p:nvPr/>
        </p:nvSpPr>
        <p:spPr>
          <a:xfrm>
            <a:off x="250920" y="477504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4"/>
          <p:cNvGrpSpPr/>
          <p:nvPr/>
        </p:nvGrpSpPr>
        <p:grpSpPr>
          <a:xfrm>
            <a:off x="1979640" y="4508640"/>
            <a:ext cx="4608360" cy="1112760"/>
            <a:chOff x="1979640" y="4508640"/>
            <a:chExt cx="4608360" cy="1112760"/>
          </a:xfrm>
        </p:grpSpPr>
        <p:sp>
          <p:nvSpPr>
            <p:cNvPr id="61" name="Text Box 8"/>
            <p:cNvSpPr/>
            <p:nvPr/>
          </p:nvSpPr>
          <p:spPr>
            <a:xfrm>
              <a:off x="1979640" y="4797360"/>
              <a:ext cx="46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所列方程为：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Object 3"/>
                <p:cNvSpPr txBox="1"/>
                <p:nvPr/>
              </p:nvSpPr>
              <p:spPr>
                <a:xfrm>
                  <a:off x="5796000" y="4508640"/>
                  <a:ext cx="380880" cy="11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Group 13"/>
          <p:cNvGrpSpPr/>
          <p:nvPr/>
        </p:nvGrpSpPr>
        <p:grpSpPr>
          <a:xfrm>
            <a:off x="5075280" y="5607000"/>
            <a:ext cx="1368360" cy="930240"/>
            <a:chOff x="5075280" y="5607000"/>
            <a:chExt cx="1368360" cy="930240"/>
          </a:xfrm>
        </p:grpSpPr>
        <p:sp>
          <p:nvSpPr>
            <p:cNvPr id="64" name="Text Box 10"/>
            <p:cNvSpPr/>
            <p:nvPr/>
          </p:nvSpPr>
          <p:spPr>
            <a:xfrm>
              <a:off x="5075280" y="5805360"/>
              <a:ext cx="13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Object 2"/>
                <p:cNvSpPr txBox="1"/>
                <p:nvPr/>
              </p:nvSpPr>
              <p:spPr>
                <a:xfrm>
                  <a:off x="5943600" y="5607000"/>
                  <a:ext cx="4932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2602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268360" y="260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列方程为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35+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580000" y="9079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012000" y="155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0" y="227664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340000" y="2276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列方程为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0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292428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5940360" y="357192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0" y="40053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2340000" y="40086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设这个数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340000" y="47293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列方程为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3-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0×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508720" y="530532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724360" y="594504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5334120" y="6858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95280" y="836640"/>
                <a:ext cx="7516800" cy="38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例：</m:t>
                        </m:r>
                        <m:r>
                          <m:rPr>
                            <m:lit/>
                            <m:nor/>
                          </m:rPr>
                          <m:t xml:space="preserve">解下面方程</m:t>
                        </m:r>
                        <m:r>
                          <m:t xml:space="preserve">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3x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x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" name="Group 5"/>
          <p:cNvGrpSpPr/>
          <p:nvPr/>
        </p:nvGrpSpPr>
        <p:grpSpPr>
          <a:xfrm>
            <a:off x="971640" y="1989000"/>
            <a:ext cx="2448000" cy="1023840"/>
            <a:chOff x="971640" y="1989000"/>
            <a:chExt cx="2448000" cy="1023840"/>
          </a:xfrm>
        </p:grpSpPr>
        <p:sp>
          <p:nvSpPr>
            <p:cNvPr id="82" name="Line 6"/>
            <p:cNvSpPr/>
            <p:nvPr/>
          </p:nvSpPr>
          <p:spPr>
            <a:xfrm>
              <a:off x="1403280" y="198900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971640" y="249228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先算的部分能直接计算的，先计算。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8"/>
            <p:cNvSpPr/>
            <p:nvPr/>
          </p:nvSpPr>
          <p:spPr>
            <a:xfrm>
              <a:off x="1908000" y="2060640"/>
              <a:ext cx="0" cy="50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4716360" y="2063880"/>
            <a:ext cx="3240360" cy="1022040"/>
            <a:chOff x="4716360" y="2063880"/>
            <a:chExt cx="3240360" cy="1022040"/>
          </a:xfrm>
        </p:grpSpPr>
        <p:sp>
          <p:nvSpPr>
            <p:cNvPr id="86" name="Line 10"/>
            <p:cNvSpPr/>
            <p:nvPr/>
          </p:nvSpPr>
          <p:spPr>
            <a:xfrm>
              <a:off x="5632560" y="2063880"/>
              <a:ext cx="6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4716360" y="2565360"/>
              <a:ext cx="32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先算的部分含有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x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而不能算，把这部分当成一个数。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>
              <a:off x="6012000" y="2133720"/>
              <a:ext cx="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3"/>
          <p:cNvGrpSpPr/>
          <p:nvPr/>
        </p:nvGrpSpPr>
        <p:grpSpPr>
          <a:xfrm>
            <a:off x="539640" y="4724280"/>
            <a:ext cx="3847680" cy="1023480"/>
            <a:chOff x="539640" y="4724280"/>
            <a:chExt cx="3847680" cy="1023480"/>
          </a:xfrm>
        </p:grpSpPr>
        <p:sp>
          <p:nvSpPr>
            <p:cNvPr id="90" name="Line 14"/>
            <p:cNvSpPr/>
            <p:nvPr/>
          </p:nvSpPr>
          <p:spPr>
            <a:xfrm>
              <a:off x="1085400" y="4724280"/>
              <a:ext cx="1275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539640" y="5227200"/>
              <a:ext cx="384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几个地方有末知数的，先合并同类项。</a:t>
              </a:r>
              <a:r>
                <a:rPr b="1" lang="zh-CN" sz="2600" spc="-1" strike="noStrike">
                  <a:solidFill>
                    <a:srgbClr val="0000ff"/>
                  </a:solidFill>
                  <a:latin typeface="Lucida Calligraphy"/>
                  <a:ea typeface="宋体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6"/>
            <p:cNvSpPr/>
            <p:nvPr/>
          </p:nvSpPr>
          <p:spPr>
            <a:xfrm>
              <a:off x="1724040" y="4795560"/>
              <a:ext cx="0" cy="50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5378400" y="4653000"/>
            <a:ext cx="3276360" cy="1450080"/>
            <a:chOff x="5378400" y="4653000"/>
            <a:chExt cx="3276360" cy="1450080"/>
          </a:xfrm>
        </p:grpSpPr>
        <p:sp>
          <p:nvSpPr>
            <p:cNvPr id="94" name="Line 18"/>
            <p:cNvSpPr/>
            <p:nvPr/>
          </p:nvSpPr>
          <p:spPr>
            <a:xfrm>
              <a:off x="6113160" y="4653000"/>
              <a:ext cx="1244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9"/>
            <p:cNvSpPr/>
            <p:nvPr/>
          </p:nvSpPr>
          <p:spPr>
            <a:xfrm>
              <a:off x="5378400" y="5155920"/>
              <a:ext cx="327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括号里有末知数，先算但不能算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把括号看成一个数。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0"/>
            <p:cNvSpPr/>
            <p:nvPr/>
          </p:nvSpPr>
          <p:spPr>
            <a:xfrm>
              <a:off x="6736680" y="4724280"/>
              <a:ext cx="0" cy="50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-609480" y="122400"/>
            <a:ext cx="834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方程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检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462400" y="1019160"/>
            <a:ext cx="14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3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χ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351080" y="1576440"/>
            <a:ext cx="28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解：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3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χ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÷3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18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683440" y="2119320"/>
            <a:ext cx="10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χ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526400" y="2809800"/>
            <a:ext cx="26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检验：方程左边＝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3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925800" y="3276720"/>
            <a:ext cx="11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3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842280" y="373860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178880" y="4145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＝方程右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3778560" y="47214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所以，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χ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宋体"/>
              </a:rPr>
              <a:t>是原方程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2"/>
          <p:cNvGrpSpPr/>
          <p:nvPr/>
        </p:nvGrpSpPr>
        <p:grpSpPr>
          <a:xfrm>
            <a:off x="250920" y="536040"/>
            <a:ext cx="8713800" cy="1191600"/>
            <a:chOff x="250920" y="536040"/>
            <a:chExt cx="8713800" cy="1191600"/>
          </a:xfrm>
        </p:grpSpPr>
        <p:sp>
          <p:nvSpPr>
            <p:cNvPr id="108" name="Text Box 4"/>
            <p:cNvSpPr/>
            <p:nvPr/>
          </p:nvSpPr>
          <p:spPr>
            <a:xfrm>
              <a:off x="250920" y="536400"/>
              <a:ext cx="871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佳佳用小棒搭房子。搭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间           用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，搭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间                用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。像这样搭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间、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间、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间分别要用多少根小棒？请填表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1"/>
            <p:cNvGrpSpPr/>
            <p:nvPr/>
          </p:nvGrpSpPr>
          <p:grpSpPr>
            <a:xfrm>
              <a:off x="1690560" y="1112400"/>
              <a:ext cx="1512720" cy="576360"/>
              <a:chOff x="1690560" y="1112400"/>
              <a:chExt cx="1512720" cy="576360"/>
            </a:xfrm>
          </p:grpSpPr>
          <p:sp>
            <p:nvSpPr>
              <p:cNvPr id="110" name="AutoShape 5"/>
              <p:cNvSpPr/>
              <p:nvPr/>
            </p:nvSpPr>
            <p:spPr>
              <a:xfrm rot="16200000">
                <a:off x="2662560" y="1148040"/>
                <a:ext cx="576360" cy="50472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 rot="16200000">
                <a:off x="2157840" y="1148040"/>
                <a:ext cx="576360" cy="50472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8"/>
              <p:cNvSpPr/>
              <p:nvPr/>
            </p:nvSpPr>
            <p:spPr>
              <a:xfrm rot="16200000">
                <a:off x="1654560" y="1148040"/>
                <a:ext cx="576360" cy="50472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0"/>
            <p:cNvGrpSpPr/>
            <p:nvPr/>
          </p:nvGrpSpPr>
          <p:grpSpPr>
            <a:xfrm>
              <a:off x="5724360" y="536040"/>
              <a:ext cx="1008000" cy="576360"/>
              <a:chOff x="5724360" y="536040"/>
              <a:chExt cx="1008000" cy="576360"/>
            </a:xfrm>
          </p:grpSpPr>
          <p:sp>
            <p:nvSpPr>
              <p:cNvPr id="114" name="AutoShape 6"/>
              <p:cNvSpPr/>
              <p:nvPr/>
            </p:nvSpPr>
            <p:spPr>
              <a:xfrm rot="16200000">
                <a:off x="5688360" y="571680"/>
                <a:ext cx="576360" cy="50472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9"/>
              <p:cNvSpPr/>
              <p:nvPr/>
            </p:nvSpPr>
            <p:spPr>
              <a:xfrm rot="16200000">
                <a:off x="6191640" y="571680"/>
                <a:ext cx="576360" cy="50472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6" name=""/>
          <p:cNvGraphicFramePr/>
          <p:nvPr/>
        </p:nvGraphicFramePr>
        <p:xfrm>
          <a:off x="395280" y="2530440"/>
          <a:ext cx="8520120" cy="1835280"/>
        </p:xfrm>
        <a:graphic>
          <a:graphicData uri="http://schemas.openxmlformats.org/drawingml/2006/table">
            <a:tbl>
              <a:tblPr/>
              <a:tblGrid>
                <a:gridCol w="1728720"/>
                <a:gridCol w="1008000"/>
                <a:gridCol w="1008360"/>
                <a:gridCol w="936360"/>
                <a:gridCol w="935280"/>
                <a:gridCol w="936360"/>
                <a:gridCol w="1967040"/>
              </a:tblGrid>
              <a:tr h="93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房子间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棒根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bad8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56"/>
          <p:cNvSpPr/>
          <p:nvPr/>
        </p:nvSpPr>
        <p:spPr>
          <a:xfrm>
            <a:off x="395280" y="4579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含有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代数式表示搭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间房子的小棒根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4284720" y="3666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9"/>
          <p:cNvSpPr/>
          <p:nvPr/>
        </p:nvSpPr>
        <p:spPr>
          <a:xfrm>
            <a:off x="5219640" y="3666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0"/>
          <p:cNvSpPr/>
          <p:nvPr/>
        </p:nvSpPr>
        <p:spPr>
          <a:xfrm>
            <a:off x="6156360" y="3666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1"/>
          <p:cNvSpPr/>
          <p:nvPr/>
        </p:nvSpPr>
        <p:spPr>
          <a:xfrm>
            <a:off x="7020000" y="3681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5+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-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5651640" y="5873760"/>
            <a:ext cx="27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5+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-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1403280" y="587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搭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间房子的小棒根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22:35Z</dcterms:created>
  <dc:creator/>
  <dc:description/>
  <dc:language>en-US</dc:language>
  <cp:lastModifiedBy/>
  <dcterms:modified xsi:type="dcterms:W3CDTF">2015-04-08T11:22:38Z</dcterms:modified>
  <cp:revision>1</cp:revision>
  <dc:subject/>
  <dc:title/>
</cp:coreProperties>
</file>